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75F5C-F9E5-4216-A416-EEECF8A05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3DB13-9A0F-490F-A044-382BF3461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32FFE-0B1D-48F7-86F3-C72710E3A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530DB-A346-4290-900F-BE0A93771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7EE88-DE02-4A4D-A729-6DB0CB9F1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46A07-45A1-431C-9F81-88A4F7DDE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F754B-546B-47CE-AE0C-D5CA65126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82742-3F76-429B-B175-2B197890B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5B71B-F162-4DD9-A524-1AA1DA1AE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9B45A-CD05-4D24-A053-AFE200327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9E9DE-2D9F-418B-BFE0-12B2C7210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DA3F7-A94D-4E3D-B8AF-AD14CAF7C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51AA-F8CF-4986-8952-CBE331F09F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1905120" y="4572000"/>
            <a:ext cx="5181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Sesiunea iunie - iulie</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transition spd="med" advTm="5000">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100000">
              <a:srgbClr val="ffff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8" name="Content Placeholder 5" descr="comp_i.jpg"/>
          <p:cNvPicPr/>
          <p:nvPr/>
        </p:nvPicPr>
        <p:blipFill>
          <a:blip r:embed="rId1"/>
          <a:stretch/>
        </p:blipFill>
        <p:spPr>
          <a:xfrm>
            <a:off x="5334120" y="1828800"/>
            <a:ext cx="2523960" cy="2523960"/>
          </a:xfrm>
          <a:prstGeom prst="rect">
            <a:avLst/>
          </a:prstGeom>
          <a:ln w="0">
            <a:noFill/>
          </a:ln>
        </p:spPr>
      </p:pic>
    </p:spTree>
  </p:cSld>
  <p:transition spd="med" advTm="5000">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p:transition spd="med" advTm="5000">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ws19</cp:lastModifiedBy>
  <dcterms:modified xsi:type="dcterms:W3CDTF">2012-06-18T11:04:02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